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B1A-EDAA-490B-9F8C-03B1082B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A07-EF6F-4538-A072-26F3969F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AFC-B8DD-454A-A0C2-A2A41F12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AF5-BA51-4E43-BE6A-1ED8942D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85D-7802-4334-B20E-A1002D5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F3D-85A0-4F32-BA6D-B497072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962-1049-4808-A6E6-AA9324FE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458-33D1-41B0-9BF6-BE06531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9F4-D784-46EA-9425-67A6716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7DF-37AA-44F2-8938-E223743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6AE-6B4E-4ACA-BF23-49F076D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237-06F1-4DA4-852C-915DDBF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920A-00B1-4857-B55E-F73B089C7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23 L -0.05902 0.00023 E">
                                      <p:cBhvr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552 -2.42775E-006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1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1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1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2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2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3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3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3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4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4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4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5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5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5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6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6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6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6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0316 0.08403 E">
                                      <p:cBhvr>
                                        <p:cTn id="17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3542 0.1051 E">
                                      <p:cBhvr>
                                        <p:cTn id="17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-0.02344 0.09445 E">
                                      <p:cBhvr>
                                        <p:cTn id="1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3541 0.1051 E">
                                      <p:cBhvr>
                                        <p:cTn id="1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57004E-007 L 0.10625 0.00023 E">
                                      <p:cBhvr>
                                        <p:cTn id="1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1743E-006 L 0.11025 -2.11743E-006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11743E-006 L 0.11024 -2.11743E-006 E">
                                      <p:cBhvr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0.11024 0.00046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9.57004E-007 L -0.00382 -0.06264 E">
                                      <p:cBhvr>
                                        <p:cTn id="3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1743E-006 L 0.00017 -0.06287 E">
                                      <p:cBhvr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57004E-007 L -0.00382 -0.06264 E">
                                      <p:cBhvr>
                                        <p:cTn id="3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11743E-006 L 0.00017 -0.06287 E">
                                      <p:cBhvr>
                                        <p:cTn id="3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2852640"/>
            <a:ext cx="21600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852640"/>
            <a:ext cx="21564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51826E-006 L 0.00017 0.16759 E">
                                      <p:cBhvr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869E-006 L 0.00399 0.16782 E">
                                      <p:cBhvr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1826E-006 L -3.88889E-006 0.16759 E">
                                      <p:cBhvr>
                                        <p:cTn id="4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7869E-006 L 0.00399 0.16782 E">
                                      <p:cBhvr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7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8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8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9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9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9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9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411280" y="938880"/>
            <a:ext cx="11520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15" y="623"/>
                </a:moveTo>
                <a:arcTo wR="10800" hR="10800" stAng="-4226723" swAng="5435168"/>
                <a:lnTo>
                  <a:pt x="10800" y="10800"/>
                </a:lnTo>
                <a:close/>
              </a:path>
              <a:path fill="none" w="21600" h="21600">
                <a:moveTo>
                  <a:pt x="14415" y="623"/>
                </a:moveTo>
                <a:arcTo wR="10800" hR="10800" stAng="-4226723" swAng="54351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908000" y="1512000"/>
            <a:ext cx="1482480" cy="104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2046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2046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476360" y="1778760"/>
            <a:ext cx="192024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15160" y="332280"/>
            <a:ext cx="105696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58960" y="548280"/>
            <a:ext cx="11257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4" y="976"/>
                </a:moveTo>
                <a:arcTo wR="10800" hR="10800" stAng="-6872401" swAng="6502224"/>
                <a:lnTo>
                  <a:pt x="10800" y="10800"/>
                </a:lnTo>
                <a:close/>
              </a:path>
              <a:path fill="none" w="21600" h="21600">
                <a:moveTo>
                  <a:pt x="6314" y="976"/>
                </a:moveTo>
                <a:arcTo wR="10800" hR="10800" stAng="-6872401" swAng="65022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858280" y="906840"/>
            <a:ext cx="203760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909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90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0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10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0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10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8:35Z</dcterms:created>
  <dc:creator>Математика</dc:creator>
  <dc:description/>
  <dc:language>en-US</dc:language>
  <cp:lastModifiedBy>User</cp:lastModifiedBy>
  <dcterms:modified xsi:type="dcterms:W3CDTF">2009-02-23T09:53:47Z</dcterms:modified>
  <cp:revision>1</cp:revision>
  <dc:subject/>
  <dc:title>Слайд 1</dc:title>
</cp:coreProperties>
</file>